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324480" y="6400800"/>
            <a:ext cx="252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© Alastair Watson, Leeds Univers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223400" y="76320"/>
            <a:ext cx="239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CE10C-3E50-4B58-A2FB-16F32E09BD86}" type="slidenum">
              <a:rPr b="1" lang="en-US" sz="2800" spc="-1" strike="noStrike">
                <a:solidFill>
                  <a:srgbClr val="d60093"/>
                </a:solidFill>
                <a:latin typeface="Arial"/>
              </a:rPr>
              <a:t>&lt;number&gt;</a:t>
            </a:fld>
            <a:r>
              <a:rPr b="1" lang="en-US" sz="2800" spc="-1" strike="noStrike">
                <a:solidFill>
                  <a:srgbClr val="d60093"/>
                </a:solidFill>
                <a:latin typeface="Arial"/>
              </a:rPr>
              <a:t>/2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CIS/2  Implementation Workshop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762120" y="3886200"/>
            <a:ext cx="7619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Item 2.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(4) Introduction to NIST Expresso To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46640" y="49860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I: April 2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File menu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838080" y="1828800"/>
          <a:ext cx="7543800" cy="456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828800"/>
                    <a:ext cx="7543800" cy="456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"/>
          <p:cNvSpPr/>
          <p:nvPr/>
        </p:nvSpPr>
        <p:spPr>
          <a:xfrm>
            <a:off x="3381480" y="254304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143000" y="274320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143000" y="373392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143000" y="352440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ools menu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Data Creator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ew and create entity instances: 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Good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Data Viewer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PRESS-X view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EXPRESS Editor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ynamically update schema,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add PRINTS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MA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Entity Graph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ew and graph entities: 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Good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ools menu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676520" y="1981080"/>
          <a:ext cx="6324480" cy="394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981080"/>
                    <a:ext cx="6324480" cy="394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2631960" y="3013200"/>
            <a:ext cx="15264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631960" y="3965400"/>
            <a:ext cx="15264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Data menu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Run All Rules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ull validate all the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Validation Control Panel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lective data valid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Validation Statistics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Show Instances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st the data as part 21 f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Data menu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066680" y="1828800"/>
          <a:ext cx="7315200" cy="438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828800"/>
                    <a:ext cx="7315200" cy="438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2146320" y="247644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146320" y="270504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146320" y="292104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146320" y="466092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4343400" y="3276720"/>
            <a:ext cx="3238200" cy="1218960"/>
            <a:chOff x="4343400" y="3276720"/>
            <a:chExt cx="3238200" cy="1218960"/>
          </a:xfrm>
        </p:grpSpPr>
        <p:sp>
          <p:nvSpPr>
            <p:cNvPr id="104" name=""/>
            <p:cNvSpPr/>
            <p:nvPr/>
          </p:nvSpPr>
          <p:spPr>
            <a:xfrm>
              <a:off x="4343400" y="3276720"/>
              <a:ext cx="228600" cy="121896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31680 h 1218960"/>
                <a:gd name="textAreaBottom" fmla="*/ 1187280 h 121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575240" y="3657600"/>
              <a:ext cx="300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EXPRESS-X relate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RESS-X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535400" y="2438280"/>
            <a:ext cx="1146960" cy="825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107400" y="2438280"/>
            <a:ext cx="1146960" cy="825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w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687760" y="2438280"/>
            <a:ext cx="3414600" cy="825480"/>
            <a:chOff x="2687760" y="2438280"/>
            <a:chExt cx="3414600" cy="825480"/>
          </a:xfrm>
        </p:grpSpPr>
        <p:sp>
          <p:nvSpPr>
            <p:cNvPr id="110" name=""/>
            <p:cNvSpPr/>
            <p:nvPr/>
          </p:nvSpPr>
          <p:spPr>
            <a:xfrm>
              <a:off x="3663720" y="2438280"/>
              <a:ext cx="1468440" cy="8254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Express-X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Mappi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11" name=""/>
            <p:cNvCxnSpPr>
              <a:stCxn id="107" idx="3"/>
              <a:endCxn id="110" idx="1"/>
            </p:cNvCxnSpPr>
            <p:nvPr/>
          </p:nvCxnSpPr>
          <p:spPr>
            <a:xfrm>
              <a:off x="2687760" y="2854080"/>
              <a:ext cx="970560" cy="1080"/>
            </a:xfrm>
            <a:prstGeom prst="straightConnector1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12" name=""/>
            <p:cNvCxnSpPr>
              <a:stCxn id="110" idx="3"/>
              <a:endCxn id="108" idx="1"/>
            </p:cNvCxnSpPr>
            <p:nvPr/>
          </p:nvCxnSpPr>
          <p:spPr>
            <a:xfrm>
              <a:off x="5138280" y="2854080"/>
              <a:ext cx="964440" cy="1080"/>
            </a:xfrm>
            <a:prstGeom prst="straightConnector1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</p:cxnSp>
      </p:grpSp>
      <p:grpSp>
        <p:nvGrpSpPr>
          <p:cNvPr id="113" name=""/>
          <p:cNvGrpSpPr/>
          <p:nvPr/>
        </p:nvGrpSpPr>
        <p:grpSpPr>
          <a:xfrm>
            <a:off x="1371600" y="3429000"/>
            <a:ext cx="5943600" cy="1676520"/>
            <a:chOff x="1371600" y="3429000"/>
            <a:chExt cx="5943600" cy="1676520"/>
          </a:xfrm>
        </p:grpSpPr>
        <p:sp>
          <p:nvSpPr>
            <p:cNvPr id="114" name=""/>
            <p:cNvSpPr/>
            <p:nvPr/>
          </p:nvSpPr>
          <p:spPr>
            <a:xfrm>
              <a:off x="1371600" y="4648320"/>
              <a:ext cx="1371600" cy="457200"/>
            </a:xfrm>
            <a:prstGeom prst="parallelogram">
              <a:avLst>
                <a:gd name="adj" fmla="val 75000"/>
              </a:avLst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943600" y="4648320"/>
              <a:ext cx="1371600" cy="457200"/>
            </a:xfrm>
            <a:prstGeom prst="parallelogram">
              <a:avLst>
                <a:gd name="adj" fmla="val 75000"/>
              </a:avLst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905120" y="3429000"/>
              <a:ext cx="457200" cy="990720"/>
            </a:xfrm>
            <a:prstGeom prst="downArrow">
              <a:avLst>
                <a:gd name="adj1" fmla="val 50000"/>
                <a:gd name="adj2" fmla="val 54173"/>
              </a:avLst>
            </a:prstGeom>
            <a:noFill/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400800" y="3429000"/>
              <a:ext cx="457200" cy="990720"/>
            </a:xfrm>
            <a:prstGeom prst="downArrow">
              <a:avLst>
                <a:gd name="adj1" fmla="val 50000"/>
                <a:gd name="adj2" fmla="val 54173"/>
              </a:avLst>
            </a:prstGeom>
            <a:noFill/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2571840" y="3429000"/>
            <a:ext cx="3543480" cy="1448280"/>
            <a:chOff x="2571840" y="3429000"/>
            <a:chExt cx="3543480" cy="1448280"/>
          </a:xfrm>
        </p:grpSpPr>
        <p:sp>
          <p:nvSpPr>
            <p:cNvPr id="119" name=""/>
            <p:cNvSpPr/>
            <p:nvPr/>
          </p:nvSpPr>
          <p:spPr>
            <a:xfrm>
              <a:off x="3428640" y="4343400"/>
              <a:ext cx="1901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Data mappi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14800" y="3429000"/>
              <a:ext cx="457200" cy="990720"/>
            </a:xfrm>
            <a:prstGeom prst="downArrow">
              <a:avLst>
                <a:gd name="adj1" fmla="val 50000"/>
                <a:gd name="adj2" fmla="val 54173"/>
              </a:avLst>
            </a:prstGeom>
            <a:noFill/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21" name=""/>
            <p:cNvCxnSpPr>
              <a:stCxn id="114" idx="2"/>
              <a:endCxn id="115" idx="5"/>
            </p:cNvCxnSpPr>
            <p:nvPr/>
          </p:nvCxnSpPr>
          <p:spPr>
            <a:xfrm>
              <a:off x="2571840" y="4876560"/>
              <a:ext cx="3543840" cy="1080"/>
            </a:xfrm>
            <a:prstGeom prst="straightConnector1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Options menu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Preferences …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alog bo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The only command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Options dialog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066680" y="2057400"/>
          <a:ext cx="7239240" cy="390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057400"/>
                    <a:ext cx="7239240" cy="390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Options dialog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914400" y="1828800"/>
          <a:ext cx="7696080" cy="413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828800"/>
                    <a:ext cx="7696080" cy="413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Options dialog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990720" y="1852560"/>
          <a:ext cx="7619760" cy="410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852560"/>
                    <a:ext cx="7619760" cy="41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Objectives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outline the potential of Express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enable the participants to make use of Expresso during the Worksho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Options dialog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838080" y="1905120"/>
          <a:ext cx="7696440" cy="413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905120"/>
                    <a:ext cx="7696440" cy="41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elp menu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Info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ersion numb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Patches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at are loa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Report a bug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emai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y send a pat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Online “manual” on we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resso Summar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124080" y="335268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200400" y="2666880"/>
            <a:ext cx="2209680" cy="1143000"/>
          </a:xfrm>
          <a:prstGeom prst="rect">
            <a:avLst/>
          </a:prstGeom>
          <a:solidFill>
            <a:srgbClr val="ff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38080" y="3124080"/>
            <a:ext cx="838440" cy="457200"/>
          </a:xfrm>
          <a:prstGeom prst="parallelogram">
            <a:avLst>
              <a:gd name="adj" fmla="val 45846"/>
            </a:avLst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828800" y="3352680"/>
            <a:ext cx="13716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855080" y="2768760"/>
            <a:ext cx="97776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rot="16200000">
            <a:off x="3200040" y="1981080"/>
            <a:ext cx="609840" cy="609480"/>
          </a:xfrm>
          <a:custGeom>
            <a:avLst/>
            <a:gdLst>
              <a:gd name="textAreaLeft" fmla="*/ 174960 w 609840"/>
              <a:gd name="textAreaRight" fmla="*/ 522360 w 609840"/>
              <a:gd name="textAreaTop" fmla="*/ 351000 h 609480"/>
              <a:gd name="textAreaBottom" fmla="*/ 52200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 rot="5400000">
            <a:off x="4724280" y="1981080"/>
            <a:ext cx="609840" cy="609840"/>
          </a:xfrm>
          <a:custGeom>
            <a:avLst/>
            <a:gdLst>
              <a:gd name="textAreaLeft" fmla="*/ 175320 w 609840"/>
              <a:gd name="textAreaRight" fmla="*/ 522720 w 609840"/>
              <a:gd name="textAreaTop" fmla="*/ 351360 h 609840"/>
              <a:gd name="textAreaBottom" fmla="*/ 522360 h 6098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447560" y="1905120"/>
            <a:ext cx="15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dit 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487480" y="1905120"/>
            <a:ext cx="171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View 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010280" y="3124080"/>
            <a:ext cx="838440" cy="457200"/>
          </a:xfrm>
          <a:prstGeom prst="parallelogram">
            <a:avLst>
              <a:gd name="adj" fmla="val 45846"/>
            </a:avLst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486400" y="3352680"/>
            <a:ext cx="137160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000" y="2743200"/>
            <a:ext cx="146988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ansla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838080" y="3809880"/>
            <a:ext cx="7010640" cy="1983960"/>
            <a:chOff x="838080" y="3809880"/>
            <a:chExt cx="7010640" cy="1983960"/>
          </a:xfrm>
        </p:grpSpPr>
        <p:sp>
          <p:nvSpPr>
            <p:cNvPr id="152" name=""/>
            <p:cNvSpPr/>
            <p:nvPr/>
          </p:nvSpPr>
          <p:spPr>
            <a:xfrm>
              <a:off x="3200400" y="3809880"/>
              <a:ext cx="2209680" cy="129564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ata Instanc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38080" y="4267080"/>
              <a:ext cx="838440" cy="457200"/>
            </a:xfrm>
            <a:prstGeom prst="parallelogram">
              <a:avLst>
                <a:gd name="adj" fmla="val 45846"/>
              </a:avLst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28800" y="4394160"/>
              <a:ext cx="13716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855080" y="3809880"/>
              <a:ext cx="1054080" cy="104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Loa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Part 2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384880" y="4394160"/>
              <a:ext cx="13716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563440" y="3809880"/>
              <a:ext cx="1054080" cy="104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Writ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Part 2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10280" y="4267080"/>
              <a:ext cx="838440" cy="457200"/>
            </a:xfrm>
            <a:prstGeom prst="parallelogram">
              <a:avLst>
                <a:gd name="adj" fmla="val 45846"/>
              </a:avLst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00400" y="5181480"/>
              <a:ext cx="609480" cy="609840"/>
            </a:xfrm>
            <a:custGeom>
              <a:avLst/>
              <a:gdLst>
                <a:gd name="textAreaLeft" fmla="*/ 174960 w 609480"/>
                <a:gd name="textAreaRight" fmla="*/ 522000 w 609480"/>
                <a:gd name="textAreaTop" fmla="*/ 351360 h 609840"/>
                <a:gd name="textAreaBottom" fmla="*/ 52236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470"/>
                  </a:moveTo>
                  <a:lnTo>
                    <a:pt x="6200" y="9340"/>
                  </a:lnTo>
                  <a:lnTo>
                    <a:pt x="6200" y="12440"/>
                  </a:lnTo>
                  <a:lnTo>
                    <a:pt x="12440" y="12440"/>
                  </a:lnTo>
                  <a:lnTo>
                    <a:pt x="12440" y="6200"/>
                  </a:lnTo>
                  <a:lnTo>
                    <a:pt x="9340" y="6200"/>
                  </a:lnTo>
                  <a:lnTo>
                    <a:pt x="15470" y="0"/>
                  </a:lnTo>
                  <a:lnTo>
                    <a:pt x="21600" y="6200"/>
                  </a:lnTo>
                  <a:lnTo>
                    <a:pt x="18500" y="6200"/>
                  </a:lnTo>
                  <a:lnTo>
                    <a:pt x="18500" y="18500"/>
                  </a:lnTo>
                  <a:lnTo>
                    <a:pt x="6200" y="18500"/>
                  </a:lnTo>
                  <a:lnTo>
                    <a:pt x="6200" y="21600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752480" y="5334120"/>
              <a:ext cx="134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ff"/>
                  </a:solidFill>
                  <a:latin typeface="Times New Roman"/>
                </a:rPr>
                <a:t>Edit Dat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>
              <a:off x="4724280" y="5105520"/>
              <a:ext cx="609840" cy="609480"/>
            </a:xfrm>
            <a:custGeom>
              <a:avLst/>
              <a:gdLst>
                <a:gd name="textAreaLeft" fmla="*/ 175320 w 609840"/>
                <a:gd name="textAreaRight" fmla="*/ 522720 w 609840"/>
                <a:gd name="textAreaTop" fmla="*/ 351000 h 609480"/>
                <a:gd name="textAreaBottom" fmla="*/ 52200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470"/>
                  </a:moveTo>
                  <a:lnTo>
                    <a:pt x="6200" y="9340"/>
                  </a:lnTo>
                  <a:lnTo>
                    <a:pt x="6200" y="12440"/>
                  </a:lnTo>
                  <a:lnTo>
                    <a:pt x="12440" y="12440"/>
                  </a:lnTo>
                  <a:lnTo>
                    <a:pt x="12440" y="6200"/>
                  </a:lnTo>
                  <a:lnTo>
                    <a:pt x="9340" y="6200"/>
                  </a:lnTo>
                  <a:lnTo>
                    <a:pt x="15470" y="0"/>
                  </a:lnTo>
                  <a:lnTo>
                    <a:pt x="21600" y="6200"/>
                  </a:lnTo>
                  <a:lnTo>
                    <a:pt x="18500" y="6200"/>
                  </a:lnTo>
                  <a:lnTo>
                    <a:pt x="18500" y="18500"/>
                  </a:lnTo>
                  <a:lnTo>
                    <a:pt x="6200" y="18500"/>
                  </a:lnTo>
                  <a:lnTo>
                    <a:pt x="6200" y="21600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333040" y="5334120"/>
              <a:ext cx="186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ff"/>
                  </a:solidFill>
                  <a:latin typeface="Times New Roman"/>
                </a:rPr>
                <a:t>Validate Dat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Brief Demonstr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362320" y="2514600"/>
            <a:ext cx="0" cy="24382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400800" y="2514600"/>
            <a:ext cx="0" cy="24382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362320" y="2514600"/>
            <a:ext cx="403848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981080" y="4952880"/>
            <a:ext cx="762120" cy="304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19920" y="4952880"/>
            <a:ext cx="761760" cy="304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362320" y="5867280"/>
            <a:ext cx="4038480" cy="0"/>
          </a:xfrm>
          <a:prstGeom prst="line">
            <a:avLst/>
          </a:prstGeom>
          <a:ln w="9360">
            <a:solidFill>
              <a:srgbClr val="00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810240" y="5410080"/>
            <a:ext cx="134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4000 m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6858000" y="2438280"/>
            <a:ext cx="0" cy="2438640"/>
          </a:xfrm>
          <a:prstGeom prst="line">
            <a:avLst/>
          </a:prstGeom>
          <a:ln w="9360">
            <a:solidFill>
              <a:srgbClr val="00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34680" y="3429000"/>
            <a:ext cx="134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3000 m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593080" y="4343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364120" y="19051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945760" y="19051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793480" y="4267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Arial"/>
              </a:rPr>
              <a:t>End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1981080"/>
            <a:ext cx="2286000" cy="2116080"/>
          </a:xfrm>
          <a:prstGeom prst="ellipse">
            <a:avLst/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8080" y="4267080"/>
            <a:ext cx="2286000" cy="2116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248520" y="4267080"/>
            <a:ext cx="2286000" cy="2116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248520" y="1981080"/>
            <a:ext cx="2286000" cy="2116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Context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1371960" y="2362320"/>
            <a:ext cx="1471320" cy="1500120"/>
            <a:chOff x="1371960" y="2362320"/>
            <a:chExt cx="1471320" cy="1500120"/>
          </a:xfrm>
        </p:grpSpPr>
        <p:pic>
          <p:nvPicPr>
            <p:cNvPr id="53" name="" descr=""/>
            <p:cNvPicPr/>
            <p:nvPr/>
          </p:nvPicPr>
          <p:blipFill>
            <a:blip r:embed="rId1"/>
            <a:stretch/>
          </p:blipFill>
          <p:spPr>
            <a:xfrm>
              <a:off x="1447920" y="2362320"/>
              <a:ext cx="1395360" cy="15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1371960" y="2895480"/>
              <a:ext cx="13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tudy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915480" y="4572000"/>
            <a:ext cx="2212200" cy="1558800"/>
            <a:chOff x="915480" y="4572000"/>
            <a:chExt cx="2212200" cy="1558800"/>
          </a:xfrm>
        </p:grpSpPr>
        <p:pic>
          <p:nvPicPr>
            <p:cNvPr id="56" name="" descr=""/>
            <p:cNvPicPr/>
            <p:nvPr/>
          </p:nvPicPr>
          <p:blipFill>
            <a:blip r:embed="rId2"/>
            <a:stretch/>
          </p:blipFill>
          <p:spPr>
            <a:xfrm>
              <a:off x="990360" y="4572000"/>
              <a:ext cx="1981440" cy="15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15480" y="5076720"/>
              <a:ext cx="22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Implemen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6400800" y="4876920"/>
            <a:ext cx="1987200" cy="1014120"/>
            <a:chOff x="6400800" y="4876920"/>
            <a:chExt cx="1987200" cy="1014120"/>
          </a:xfrm>
        </p:grpSpPr>
        <p:pic>
          <p:nvPicPr>
            <p:cNvPr id="59" name="" descr=""/>
            <p:cNvPicPr/>
            <p:nvPr/>
          </p:nvPicPr>
          <p:blipFill>
            <a:blip r:embed="rId3"/>
            <a:stretch/>
          </p:blipFill>
          <p:spPr>
            <a:xfrm>
              <a:off x="6400800" y="4876920"/>
              <a:ext cx="1904760" cy="101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6401160" y="501480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689880" y="2362320"/>
            <a:ext cx="1400760" cy="1236600"/>
            <a:chOff x="6689880" y="2362320"/>
            <a:chExt cx="1400760" cy="1236600"/>
          </a:xfrm>
        </p:grpSpPr>
        <p:pic>
          <p:nvPicPr>
            <p:cNvPr id="62" name="" descr=""/>
            <p:cNvPicPr/>
            <p:nvPr/>
          </p:nvPicPr>
          <p:blipFill>
            <a:blip r:embed="rId4"/>
            <a:stretch/>
          </p:blipFill>
          <p:spPr>
            <a:xfrm>
              <a:off x="6689880" y="2362320"/>
              <a:ext cx="137124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6690600" y="275580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cop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3429000" y="304812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3429000" y="518148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3886200"/>
            <a:ext cx="0" cy="76212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he Expresso Tool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veloped by Peter Denno of NI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vailable at no co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wnload from web si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ww.mel.nist.gov/msidstaff/denno/nist-expresso.ht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ndows 95 and 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latively stable and robu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Expresso Loading!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762120" y="1676520"/>
          <a:ext cx="7543800" cy="456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543800" cy="456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resso will ...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se an EXPRESS mod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d detect (well) the presence of err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alk over the loaded mod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owing inspection of the EXPR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raph EXPRESS subtype tre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d and write Part 21 fi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the validation and creation of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rform EXPRESS-X mapp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resso will not ...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place a (commercial) STEP toolkit f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jor EXPRESS model develop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nslator develop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mitations 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low and hungry (implemented in lisp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mited model error diagnosti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API for programm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MACS style EXPRESS edi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ttle document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levance of Expresso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Inspection and viewing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existing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 EXPRESS mod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.e. LPM/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Creation, editing and validation of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Part 21 fi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But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not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for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the generation of CC long forms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File menu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Load EXPRESS file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nslated with high fidelity into internal obje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rror reporting is not very informat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lo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Save Translated schema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 .lsp file for quicker relo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Load Part 21 file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Save Part 21 file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03T23:30:44Z</dcterms:created>
  <dc:creator>Alastair Watson</dc:creator>
  <dc:description/>
  <dc:language>en-US</dc:language>
  <cp:lastModifiedBy>Alastair Watson</cp:lastModifiedBy>
  <dcterms:modified xsi:type="dcterms:W3CDTF">2000-04-04T15:03:29Z</dcterms:modified>
  <cp:revision>49</cp:revision>
  <dc:subject/>
  <dc:title>AISC CIS/2  Workshop #I</dc:title>
</cp:coreProperties>
</file>